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573-787C-4943-A708-1510D8D2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F7E-1637-479A-8AA0-F48E196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122-0B25-41FB-8640-628984B5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AC3-D814-4323-B56E-659079B6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AB2-108D-4660-82A9-81C692EE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01A9-1EF0-4250-8573-BE93CC9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9326-3F62-4600-A838-A3289B4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C1D2-B984-4CCB-9D80-A3284039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D80F-1EC8-4870-81A1-73CB23E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8486-957A-43FA-9843-6D9E522F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194D-75AB-470C-91A3-4674957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1BF-36C5-4AB5-9DD1-4EF55CBC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648-C995-4F6D-AA65-6185949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35AD-5A63-43DA-8328-9A884D8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E3FD-1AA4-46F5-96AF-104D0E5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760-528E-4D53-A90B-64E80F59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188-5A64-4685-9944-DC40117E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BA2-0B81-4E3B-B02E-2168DEA7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D3E-0B3F-4E0F-BF80-8290C93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23D-6169-4488-B7AD-40A43266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FF1-7354-4661-BDAB-67ACC630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532-2B0B-4CF9-8ACE-AA07F6BC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A9B-4324-449C-B6AC-2AED85B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70B-7B09-4D1A-8544-609E623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8386-720B-45B4-9DA9-A0BD4B19C0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7BB7-6447-4562-B607-D92F7811B7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Getting Started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ness doesn’t just happen, it requires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of the greatest motivators in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tivates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metimes happens when many people all try to be great at the same 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Exploration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Nations Facing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tatus of Affair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aly was wealthy and the fancy of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powers seek ways to gain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frastructure to create a trade empire made them more power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earch for Asian trade route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ces &amp; luxury goods in great demand form Asia &amp; East In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er routes: sea routes (Western Pass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Linked people of different cultures &amp; ended European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812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Motives for Explora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: Desire for new sources of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rade with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s &amp; Muslims already controlled the 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: Spread Christian teac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ty was convert non-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: To fulfill Renaissance ideas of adventure, discovery &amp; personal achie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5614920"/>
            <a:ext cx="1523880" cy="124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352680" y="537516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5108400"/>
            <a:ext cx="25909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Improved Technology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ED for long voy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-shaped sails (against or with the wind), ---Islamic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masts: Move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vels and gall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76960" y="3200400"/>
            <a:ext cx="286704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81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Other innov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labe – Helped determi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compass: Chinese directional tool (brought by the Silk Ro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407280" y="2971800"/>
            <a:ext cx="273672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33720" y="3630600"/>
            <a:ext cx="3504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39:54Z</dcterms:created>
  <dc:creator>School District</dc:creator>
  <dc:description/>
  <cp:keywords/>
  <dc:language>en-US</dc:language>
  <cp:lastModifiedBy>Technology Department</cp:lastModifiedBy>
  <dcterms:modified xsi:type="dcterms:W3CDTF">2007-02-22T18:07:12Z</dcterms:modified>
  <cp:revision>5</cp:revision>
  <dc:subject/>
  <dc:title>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21033</vt:lpwstr>
  </property>
</Properties>
</file>